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CA03-40EE-4348-97CE-F93556935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A5F0-45B1-4EFA-988E-DD649C29908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D674-2A7A-4670-8930-9A48F2E44BE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D47F-42BD-4ECF-AEA3-E869BF0141E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FD0B-3879-49A1-9C7B-EA42CE361F5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FAF3-3A1C-429D-8A48-A7210504F75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D8E4-44F1-4F91-B90C-F57FADE925E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47F2-E11C-4A0D-8FBD-B2BBA4E82AB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B3F8-2D6C-4778-83FE-04DEC024648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28F6-ECB3-4D9F-9C1C-CCDEF84F0BB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6AC2-8678-46F3-B376-BE88A98C931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4C3-1F7C-4BB5-948D-2B0EF02D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B69-E1CC-48A8-B984-89385266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CCF-23B7-423A-BB4E-EB72DB35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8064-7336-4E6E-9716-085E2E74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69A4-909F-4ED9-B221-5D501EF2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841B-9C71-43BF-B8F7-B93285DF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D0E3-9B11-4794-9D80-F5B84DCE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3A2E-235D-4C07-832B-F1D2713E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EE6B-CD2B-401B-8B4C-01657C64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9F67-C128-493E-B42B-B50B83EE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36C2-34A1-4020-A5A5-E62A1959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4C5-F04B-42BE-B524-CF94F899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F6EB-EB41-4C47-9457-19786DB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BD6B-EF96-4075-AECC-E76410C0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66B9-A88C-4542-B7B0-741F6AE2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79B1-EA52-4ABC-8271-A8D2C2D2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B983-B641-4CB4-8D3E-CC4BC0F8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513-5726-4630-9160-C13D90FD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0A2-C8E5-4644-89FE-0D8E8547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FA7-0C81-43EB-8710-BAEC72C8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35B-A384-4B13-8890-55517FE5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14B-AFD8-48B3-8769-16263D6C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868-377D-4A96-8FF8-5EE1CA7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C57-3722-495D-A767-88625B4F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36DC-1D24-4F30-B875-2FFBB9E1D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F4D9-9DF1-4FEA-B065-4776DECF0F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14"/>
          <p:cNvSpPr/>
          <p:nvPr/>
        </p:nvSpPr>
        <p:spPr>
          <a:xfrm>
            <a:off x="2514600" y="6172200"/>
            <a:ext cx="2895480" cy="457200"/>
          </a:xfrm>
          <a:custGeom>
            <a:avLst/>
            <a:gdLst>
              <a:gd name="textAreaLeft" fmla="*/ 29520 w 2895480"/>
              <a:gd name="textAreaRight" fmla="*/ 2865960 w 2895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6704" h="21600">
                <a:moveTo>
                  <a:pt x="0" y="0"/>
                </a:moveTo>
                <a:lnTo>
                  <a:pt x="136704" y="0"/>
                </a:lnTo>
                <a:lnTo>
                  <a:pt x="136704" y="21600"/>
                </a:lnTo>
                <a:lnTo>
                  <a:pt x="0" y="21600"/>
                </a:lnTo>
                <a:close/>
              </a:path>
              <a:path fill="lightenLess" w="136704" h="21600">
                <a:moveTo>
                  <a:pt x="0" y="0"/>
                </a:moveTo>
                <a:lnTo>
                  <a:pt x="136704" y="0"/>
                </a:lnTo>
                <a:lnTo>
                  <a:pt x="135304" y="1400"/>
                </a:lnTo>
                <a:lnTo>
                  <a:pt x="1400" y="1400"/>
                </a:lnTo>
                <a:close/>
              </a:path>
              <a:path fill="darken" w="136704" h="21600">
                <a:moveTo>
                  <a:pt x="136704" y="0"/>
                </a:moveTo>
                <a:lnTo>
                  <a:pt x="136704" y="21600"/>
                </a:lnTo>
                <a:lnTo>
                  <a:pt x="135304" y="20200"/>
                </a:lnTo>
                <a:lnTo>
                  <a:pt x="135304" y="1400"/>
                </a:lnTo>
                <a:close/>
              </a:path>
              <a:path fill="darkenLess" w="136704" h="21600">
                <a:moveTo>
                  <a:pt x="1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04" y="20200"/>
                </a:lnTo>
                <a:close/>
              </a:path>
              <a:path fill="lighten" w="1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64718"/>
              </a:gs>
              <a:gs pos="50000">
                <a:srgbClr val="ff9933"/>
              </a:gs>
              <a:gs pos="100000">
                <a:srgbClr val="764718"/>
              </a:gs>
            </a:gsLst>
            <a:lin ang="5400000"/>
          </a:gradFill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do children lear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27352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14400" y="22096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nsorimo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0-2 years 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operat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2-7 years 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rete operat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-11 years 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mal op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11-14+ years 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2584080" y="621828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an Piaget (1896-1980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Preoperational children cannot conserv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example, rolling out a lump of clay…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5486400" y="3124080"/>
          <a:ext cx="10746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124080"/>
                    <a:ext cx="10746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AutoShape 6"/>
          <p:cNvSpPr/>
          <p:nvPr/>
        </p:nvSpPr>
        <p:spPr>
          <a:xfrm>
            <a:off x="7086600" y="6019920"/>
            <a:ext cx="1447920" cy="83808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7311" h="21600">
                <a:moveTo>
                  <a:pt x="0" y="0"/>
                </a:moveTo>
                <a:lnTo>
                  <a:pt x="37311" y="0"/>
                </a:lnTo>
                <a:lnTo>
                  <a:pt x="37311" y="21600"/>
                </a:lnTo>
                <a:lnTo>
                  <a:pt x="0" y="21600"/>
                </a:lnTo>
                <a:close/>
              </a:path>
              <a:path fill="lightenLess" w="37311" h="21600">
                <a:moveTo>
                  <a:pt x="0" y="0"/>
                </a:moveTo>
                <a:lnTo>
                  <a:pt x="37311" y="0"/>
                </a:lnTo>
                <a:lnTo>
                  <a:pt x="35911" y="1400"/>
                </a:lnTo>
                <a:lnTo>
                  <a:pt x="1400" y="1400"/>
                </a:lnTo>
                <a:close/>
              </a:path>
              <a:path fill="darken" w="37311" h="21600">
                <a:moveTo>
                  <a:pt x="37311" y="0"/>
                </a:moveTo>
                <a:lnTo>
                  <a:pt x="37311" y="21600"/>
                </a:lnTo>
                <a:lnTo>
                  <a:pt x="35911" y="20200"/>
                </a:lnTo>
                <a:lnTo>
                  <a:pt x="35911" y="1400"/>
                </a:lnTo>
                <a:close/>
              </a:path>
              <a:path fill="darkenLess" w="37311" h="21600">
                <a:moveTo>
                  <a:pt x="37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911" y="20200"/>
                </a:lnTo>
                <a:close/>
              </a:path>
              <a:path fill="lighten" w="37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ensorimotor  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0 - 2 years old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imulus bound and unable to initiate internal thou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ct to stimulus from without rather than from with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ody movements are experiments with their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d stimulus is important for develop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5867280" y="2743200"/>
            <a:ext cx="2973600" cy="391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"/>
          <p:cNvPicPr/>
          <p:nvPr/>
        </p:nvPicPr>
        <p:blipFill>
          <a:blip r:embed="rId2"/>
          <a:stretch/>
        </p:blipFill>
        <p:spPr>
          <a:xfrm>
            <a:off x="4114800" y="5334120"/>
            <a:ext cx="1422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operational   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2 - 7 years old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symbolize things (=&gt; language) and actions (e.g., think about it before doing it)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pay attention to 1 or maybe 2 aspects of a thing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cuses on states rather than transformations between state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gocentric =&gt; difficulty in understanding views that are not their 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181480" y="5410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5181480" y="4038480"/>
            <a:ext cx="381240" cy="6858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85800"/>
              <a:gd name="textAreaBottom" fmla="*/ 661320 h 685800"/>
            </a:gdLst>
            <a:ahLst/>
            <a:rect l="textAreaLeft" t="textAreaTop" r="textAreaRight" b="textAreaBottom"/>
            <a:pathLst>
              <a:path w="21600" h="38839">
                <a:moveTo>
                  <a:pt x="0" y="0"/>
                </a:moveTo>
                <a:lnTo>
                  <a:pt x="21600" y="0"/>
                </a:lnTo>
                <a:lnTo>
                  <a:pt x="21600" y="38839"/>
                </a:lnTo>
                <a:lnTo>
                  <a:pt x="0" y="38839"/>
                </a:lnTo>
                <a:close/>
              </a:path>
              <a:path fill="lightenLess" w="21600" h="388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839">
                <a:moveTo>
                  <a:pt x="21600" y="0"/>
                </a:moveTo>
                <a:lnTo>
                  <a:pt x="21600" y="38839"/>
                </a:lnTo>
                <a:lnTo>
                  <a:pt x="20200" y="37439"/>
                </a:lnTo>
                <a:lnTo>
                  <a:pt x="20200" y="1400"/>
                </a:lnTo>
                <a:close/>
              </a:path>
              <a:path fill="darkenLess" w="21600" h="38839">
                <a:moveTo>
                  <a:pt x="21600" y="38839"/>
                </a:moveTo>
                <a:lnTo>
                  <a:pt x="0" y="38839"/>
                </a:lnTo>
                <a:lnTo>
                  <a:pt x="1400" y="37439"/>
                </a:lnTo>
                <a:lnTo>
                  <a:pt x="20200" y="37439"/>
                </a:lnTo>
                <a:close/>
              </a:path>
              <a:path fill="lighten" w="21600" h="38839">
                <a:moveTo>
                  <a:pt x="0" y="388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743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6172200" y="2664000"/>
            <a:ext cx="273204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le to think of different times (beyond and before the pres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ble to begin sorting and seriation =&gt; classifica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able to reverse their think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derstanding of  subcategories is difficul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operational     </a:t>
            </a:r>
            <a:r>
              <a:rPr b="0" i="1" lang="en-US" sz="3600" spc="-1" strike="noStrike">
                <a:solidFill>
                  <a:srgbClr val="ffcc66"/>
                </a:solidFill>
                <a:latin typeface="Times New Roman"/>
              </a:rPr>
              <a:t>2 - 7 years old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6172200" y="2670120"/>
            <a:ext cx="27320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rete Operational   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7 - 11 years old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arn mainly through concrete experien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le to formulate more elaborate systems of classification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(=&gt; more elaborate idea structur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versibility =&gt; beginning to be able to conse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ience activities that                     encourage classification                 contribute to the “3 Rs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5715000" y="4648320"/>
            <a:ext cx="31622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3429000" cy="2438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mal Operational     </a:t>
            </a: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11 - 14+ years old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hild develops abstract, reflexive though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nking processes are more hypothetical and dedu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tacognition is possi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child can control and isolate variable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Montessori classroo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5181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e exploration and manipulation of objects enable learn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xed age grouping, discrepant events and subsequent coginitive conflict, encourage learn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Montessori environment is intended to maximize the child’s capabilities at any stag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6068880" y="2413080"/>
            <a:ext cx="30751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3441600" y="2463840"/>
            <a:ext cx="5702400" cy="4394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hildren learning about science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young children, experiencing is more important than experimen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l firsthand experiences using all of the senses nourishes the natural sense of inquiry.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no other beginning of learning than wonder”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- Pla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oddlers Property Law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If I like it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If it's in my hand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 If I can take it from you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If I had it a little while ago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. If it's mine, it must never appear to be yours in any w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If I'm doing or building something, all the pieces are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. If it looks like mine, it i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8. If I saw it first, it'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9. If you are playing with something and you put it down, it automatically becomes m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. If it's broken, it's yours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800100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6T07:40:12Z</dcterms:created>
  <dc:creator>Mark Roddy</dc:creator>
  <dc:description/>
  <dc:language>en-US</dc:language>
  <cp:lastModifiedBy>Microsoft Office User</cp:lastModifiedBy>
  <cp:lastPrinted>2000-01-16T12:40:32Z</cp:lastPrinted>
  <dcterms:modified xsi:type="dcterms:W3CDTF">2016-02-26T18:02:10Z</dcterms:modified>
  <cp:revision>29</cp:revision>
  <dc:subject/>
  <dc:title>How do children learn?</dc:title>
</cp:coreProperties>
</file>